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C9E-6365-480C-BB28-70D189B3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065-CB37-4002-BDB6-91812ACA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B98-C6ED-4E9A-85B8-B0F2C058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D4F-5960-4EE2-93A9-AD63FDD7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6C3-4819-4A27-AE06-7F0DA117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831-F785-428A-8B34-F838397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6D8-63F0-467C-95D2-3472509E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2CB-F973-4D0D-AD45-507028F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285-217D-4DE2-9059-2E44B9B2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8AA-C18F-4590-AF3C-8A8BEFD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2FC-009D-45AF-91D5-184CD4A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FF1-AB5E-47DB-821E-0B229EBB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6496-1D0B-4D5D-9800-11E36174916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联合、枚举、类型说明和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除了数组和指针外，还定义了联合和枚举两种聚合数据类型，这是特殊形式的数据类型。下面分别进行讲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类型说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说明是指由用户自己定义类型说明符，也就是说允许由用户为数据类型取新类型名。类型说明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类型名 新类型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类型定义符，原类型名中含有定义部分，新类型名一般用大写表示，以便于区别。例如，有整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声明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整型变量的类型说明符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完整写法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g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为了增加程序的可读性，可把整型声明符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新定义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int INTEGER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”是把一个字节中的二进位划分为几个不同的区域，并说明每个区域的位数。每个域有一个域名，允许在程序中按域名进行操作。这样就可以把几个不同的对象用一个字节的二进制位来表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有些信息在存储时，只需占几个或一个二进制位，而并不需要占用一个完整的字节。例如在存放一个开关量时，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种状态，用一位二进位即可。因此，采用位域可以节省存储空间，并使处理简便。位域数据结构，也常称为“位段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的定义和位域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定义与结构定义相似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结构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类型说明符 位域名：位域长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在位域结构中说明了位域名的类型以及位域的长度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btes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a:4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b: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c:3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变量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的位域名引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允许用各种格式输出，也可以使用指针。位域变量在程序中的使用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几种特性形式的聚合数据类型，包括联合类型、枚举类型、类型说明以及位域。这些特殊的数据类型是对基本数据类型的有效扩充。灵活运用这些特殊数据类型，可以方便单片机的程序设计。因此，熟练掌握本章内容是单片机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类型，是指将不同的变量组织成一个整体的数据类型。其中的这些变量在内存中占用同一段存储单元，而在不同的时间保存不同的数据类型和不同长度的变量。因此，联合类型也称为共用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和联合变量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的定义与结构十分相似，其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i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变量成员的引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体变量成员的引用方法与结构体完全相同。例如，对于前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成员引用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4743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和联合的区别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和联合在很多方面都很相似，但它们之间有本质的区别。结构和联合的区别主要体现在如下几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由多个不同数据类型成员组成的结构变量和联合变量，在任何同一时刻，结构的所有成员都存在，而联合变量中只存放了一个被选中的成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变量的不同成员赋值是互不影响的，而对于联合变量的不同成员赋值，将会对其他成员重写，原来成员的值就不存在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类型主要用于将变量的取值限定在一个有限的范围内的场合。枚举类型在定义中列举出所有可能的取值，被声明为该类型的变量取值不能超过定义的范围。枚举类型是一种基本数据类型，而不是一种构造类型。例如，一个星期内只有七天、一年只有十二个月、一个班每周有六门课程等。如果把这些量说明为整型、字符型或其他类型显然是不妥当的。此时，采用枚举类型则不但可以简洁明了地表示其取值，又节省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类型定义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枚举名即所定义的枚举类型，标识符是枚举类型的取值范围，枚举变量是声明为该枚举类型的变量。每个枚举元素后的结束符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不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最后一个元素后的结束符可以省略不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变量的声明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方式。这里假设有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声明为上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，分别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声明方式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81952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54348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581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变量的赋值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枚举类型在定义时如果没有初始化，即省去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型常数”，枚举元素本身由系统定义了一个表示序号的数值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始顺序定义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…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如果枚举中的某元素被赋值后，其后成员按依次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规则，确定其值。例如：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，依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ues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…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u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267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0:38Z</dcterms:created>
  <dc:creator>cheng</dc:creator>
  <dc:description/>
  <dc:language>en-US</dc:language>
  <cp:lastModifiedBy>cheng</cp:lastModifiedBy>
  <dcterms:modified xsi:type="dcterms:W3CDTF">2008-10-13T06:16:58Z</dcterms:modified>
  <cp:revision>3</cp:revision>
  <dc:subject/>
  <dc:title>第10章  联合、枚举、类型说明和位域</dc:title>
</cp:coreProperties>
</file>